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8AC8-F3B3-4F26-9F21-577A793B1067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1684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ing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ed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identifier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abel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text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54000" y="54086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00" y="156960"/>
            <a:ext cx="8602920" cy="5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nected_members : SET [2:?] O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5240" y="8208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523360" cy="48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ENUMERATION OF (fire, impulse, impact, undefined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9320" y="88560"/>
            <a:ext cx="883908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positive_length_meas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53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0720" y="877680"/>
            <a:ext cx="557676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65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69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73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77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0" name=""/>
            <p:cNvCxnSpPr>
              <a:stCxn id="169" idx="3"/>
              <a:endCxn id="173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"/>
            <p:cNvCxnSpPr>
              <a:stCxn id="169" idx="2"/>
              <a:endCxn id="177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3" name=""/>
          <p:cNvCxnSpPr>
            <a:stCxn id="184" idx="2"/>
            <a:endCxn id="170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87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0" name=""/>
          <p:cNvCxnSpPr>
            <a:stCxn id="185" idx="2"/>
            <a:endCxn id="188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1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192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84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187" idx="2"/>
            <a:endCxn id="195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7" idx="2"/>
            <a:endCxn id="193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02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7" name=""/>
          <p:cNvCxnSpPr>
            <a:stCxn id="184" idx="3"/>
            <a:endCxn id="203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62" idx="2"/>
            <a:endCxn id="166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70320" y="1668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8080" y="25081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30840" y="4280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4" idx="2"/>
            <a:endCxn id="212" idx="2"/>
          </p:cNvCxnSpPr>
          <p:nvPr/>
        </p:nvCxnSpPr>
        <p:spPr>
          <a:xfrm flipH="1" rot="16200000">
            <a:off x="2640240" y="128088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15" name=""/>
          <p:cNvSpPr/>
          <p:nvPr/>
        </p:nvSpPr>
        <p:spPr>
          <a:xfrm>
            <a:off x="5688000" y="2644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4" idx="3"/>
            <a:endCxn id="217" idx="2"/>
          </p:cNvCxnSpPr>
          <p:nvPr/>
        </p:nvCxnSpPr>
        <p:spPr>
          <a:xfrm>
            <a:off x="3025800" y="204444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5410080" y="1968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080" y="18320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34640" y="1206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75800" y="1206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35680" y="41180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71480" y="23176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5440" y="394164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16320" y="12063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09800" y="1797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50400" y="40514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600880" y="1836360"/>
            <a:ext cx="1363320" cy="376200"/>
            <a:chOff x="5600880" y="1836360"/>
            <a:chExt cx="1363320" cy="376200"/>
          </a:xfrm>
        </p:grpSpPr>
        <p:sp>
          <p:nvSpPr>
            <p:cNvPr id="227" name=""/>
            <p:cNvSpPr/>
            <p:nvPr/>
          </p:nvSpPr>
          <p:spPr>
            <a:xfrm>
              <a:off x="5600880" y="183672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23080" y="18363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338560" y="203832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2"/>
            <a:endCxn id="215" idx="2"/>
          </p:cNvCxnSpPr>
          <p:nvPr/>
        </p:nvCxnSpPr>
        <p:spPr>
          <a:xfrm flipH="1" rot="16200000">
            <a:off x="3836880" y="88488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31" name=""/>
          <p:cNvGrpSpPr/>
          <p:nvPr/>
        </p:nvGrpSpPr>
        <p:grpSpPr>
          <a:xfrm>
            <a:off x="5629320" y="3135240"/>
            <a:ext cx="1234800" cy="744480"/>
            <a:chOff x="5629320" y="3135240"/>
            <a:chExt cx="1234800" cy="744480"/>
          </a:xfrm>
        </p:grpSpPr>
        <p:sp>
          <p:nvSpPr>
            <p:cNvPr id="232" name=""/>
            <p:cNvSpPr/>
            <p:nvPr/>
          </p:nvSpPr>
          <p:spPr>
            <a:xfrm>
              <a:off x="5629320" y="330372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34040" y="3135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723000" y="331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34040" y="3727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6" name=""/>
          <p:cNvCxnSpPr>
            <a:stCxn id="220" idx="0"/>
            <a:endCxn id="235" idx="4"/>
          </p:cNvCxnSpPr>
          <p:nvPr/>
        </p:nvCxnSpPr>
        <p:spPr>
          <a:xfrm flipV="1">
            <a:off x="6210000" y="389376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11" idx="2"/>
            <a:endCxn id="233" idx="0"/>
          </p:cNvCxnSpPr>
          <p:nvPr/>
        </p:nvCxnSpPr>
        <p:spPr>
          <a:xfrm flipH="1" rot="16200000">
            <a:off x="6106680" y="3018240"/>
            <a:ext cx="20412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7250400" y="25480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09800" y="32558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119160" y="459576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4160" y="337500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8360" y="1785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5" idx="3"/>
            <a:endCxn id="243" idx="2"/>
          </p:cNvCxnSpPr>
          <p:nvPr/>
        </p:nvCxnSpPr>
        <p:spPr>
          <a:xfrm>
            <a:off x="1825200" y="1857240"/>
            <a:ext cx="1599480" cy="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87560" y="1495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7280" y="16444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85480" y="1644480"/>
            <a:ext cx="1511280" cy="411120"/>
            <a:chOff x="285480" y="1644480"/>
            <a:chExt cx="1511280" cy="411120"/>
          </a:xfrm>
        </p:grpSpPr>
        <p:sp>
          <p:nvSpPr>
            <p:cNvPr id="245" name=""/>
            <p:cNvSpPr/>
            <p:nvPr/>
          </p:nvSpPr>
          <p:spPr>
            <a:xfrm>
              <a:off x="285480" y="1644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724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012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23920" y="34416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91920" y="33606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7" idx="2"/>
            <a:endCxn id="254" idx="2"/>
          </p:cNvCxnSpPr>
          <p:nvPr/>
        </p:nvCxnSpPr>
        <p:spPr>
          <a:xfrm flipH="1" rot="16200000">
            <a:off x="5782320" y="13474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485280" y="10922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65160" y="10922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54080" y="109224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51920" y="28256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26400" y="22766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62" idx="2"/>
          </p:cNvCxnSpPr>
          <p:nvPr/>
        </p:nvCxnSpPr>
        <p:spPr>
          <a:xfrm flipH="1" rot="16200000">
            <a:off x="5022000" y="112428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954600" y="189720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4" idx="2"/>
            <a:endCxn id="265" idx="2"/>
          </p:cNvCxnSpPr>
          <p:nvPr/>
        </p:nvCxnSpPr>
        <p:spPr>
          <a:xfrm flipH="1" rot="16200000">
            <a:off x="6483960" y="151632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5808600" y="189720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23160" y="30225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8669160" y="30222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62960" y="3137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61160" y="367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24960" y="35272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642520" y="3527280"/>
            <a:ext cx="0" cy="3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661160" y="2487240"/>
            <a:ext cx="1123920" cy="376200"/>
            <a:chOff x="7661160" y="2487240"/>
            <a:chExt cx="1123920" cy="376200"/>
          </a:xfrm>
        </p:grpSpPr>
        <p:sp>
          <p:nvSpPr>
            <p:cNvPr id="265" name=""/>
            <p:cNvSpPr/>
            <p:nvPr/>
          </p:nvSpPr>
          <p:spPr>
            <a:xfrm>
              <a:off x="7661160" y="260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40440" y="24876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658000" y="24872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76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8" name=""/>
          <p:cNvCxnSpPr>
            <a:stCxn id="274" idx="2"/>
            <a:endCxn id="277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82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86" name=""/>
              <p:cNvCxnSpPr>
                <a:stCxn id="276" idx="3"/>
                <a:endCxn id="285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87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0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1" name=""/>
              <p:cNvCxnSpPr>
                <a:stCxn id="276" idx="2"/>
                <a:endCxn id="296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"/>
              <p:cNvCxnSpPr>
                <a:stCxn id="276" idx="2"/>
                <a:endCxn id="293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"/>
              <p:cNvCxnSpPr>
                <a:stCxn id="276" idx="2"/>
                <a:endCxn id="299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04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7" name=""/>
              <p:cNvCxnSpPr>
                <a:stCxn id="276" idx="2"/>
                <a:endCxn id="306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08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13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17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21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4" name=""/>
            <p:cNvCxnSpPr>
              <a:stCxn id="313" idx="3"/>
              <a:endCxn id="317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5" name=""/>
            <p:cNvCxnSpPr>
              <a:stCxn id="313" idx="2"/>
              <a:endCxn id="321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26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28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1" name=""/>
          <p:cNvCxnSpPr>
            <a:stCxn id="330" idx="2"/>
            <a:endCxn id="314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6" idx="1"/>
            <a:endCxn id="338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7" idx="2"/>
            <a:endCxn id="344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47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1" idx="2"/>
            <a:endCxn id="350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3" name=""/>
          <p:cNvCxnSpPr>
            <a:stCxn id="351" idx="2"/>
            <a:endCxn id="354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48" idx="4"/>
            <a:endCxn id="356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56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7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2800" y="2979720"/>
            <a:ext cx="4505040" cy="31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ain feat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35920" y="157464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154560" y="2481120"/>
            <a:ext cx="690840" cy="593640"/>
            <a:chOff x="6154560" y="2481120"/>
            <a:chExt cx="690840" cy="593640"/>
          </a:xfrm>
        </p:grpSpPr>
        <p:sp>
          <p:nvSpPr>
            <p:cNvPr id="364" name=""/>
            <p:cNvSpPr/>
            <p:nvPr/>
          </p:nvSpPr>
          <p:spPr>
            <a:xfrm>
              <a:off x="6154560" y="270360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05480" y="2481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64360" y="2685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7" name=""/>
          <p:cNvCxnSpPr>
            <a:stCxn id="362" idx="2"/>
            <a:endCxn id="365" idx="0"/>
          </p:cNvCxnSpPr>
          <p:nvPr/>
        </p:nvCxnSpPr>
        <p:spPr>
          <a:xfrm>
            <a:off x="6496200" y="2014200"/>
            <a:ext cx="3600" cy="45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8" name=""/>
          <p:cNvGrpSpPr/>
          <p:nvPr/>
        </p:nvGrpSpPr>
        <p:grpSpPr>
          <a:xfrm>
            <a:off x="7120080" y="3243240"/>
            <a:ext cx="1792440" cy="398880"/>
            <a:chOff x="7120080" y="3243240"/>
            <a:chExt cx="1792440" cy="398880"/>
          </a:xfrm>
        </p:grpSpPr>
        <p:sp>
          <p:nvSpPr>
            <p:cNvPr id="369" name=""/>
            <p:cNvSpPr/>
            <p:nvPr/>
          </p:nvSpPr>
          <p:spPr>
            <a:xfrm>
              <a:off x="7343280" y="324324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20080" y="33447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147080" y="3833640"/>
            <a:ext cx="1734840" cy="398880"/>
            <a:chOff x="7147080" y="3833640"/>
            <a:chExt cx="1734840" cy="398880"/>
          </a:xfrm>
        </p:grpSpPr>
        <p:sp>
          <p:nvSpPr>
            <p:cNvPr id="372" name=""/>
            <p:cNvSpPr/>
            <p:nvPr/>
          </p:nvSpPr>
          <p:spPr>
            <a:xfrm>
              <a:off x="7370640" y="383364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7080" y="393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64" idx="2"/>
            <a:endCxn id="373" idx="2"/>
          </p:cNvCxnSpPr>
          <p:nvPr/>
        </p:nvCxnSpPr>
        <p:spPr>
          <a:xfrm flipH="1" rot="16200000">
            <a:off x="6357600" y="325476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4" idx="2"/>
            <a:endCxn id="370" idx="2"/>
          </p:cNvCxnSpPr>
          <p:nvPr/>
        </p:nvCxnSpPr>
        <p:spPr>
          <a:xfrm flipH="1" rot="16200000">
            <a:off x="6640560" y="297288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"/>
          <p:cNvSpPr/>
          <p:nvPr/>
        </p:nvSpPr>
        <p:spPr>
          <a:xfrm>
            <a:off x="6518880" y="20430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5400" y="160956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29080" y="17146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65080" y="159228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62" idx="1"/>
            <a:endCxn id="378" idx="6"/>
          </p:cNvCxnSpPr>
          <p:nvPr/>
        </p:nvCxnSpPr>
        <p:spPr>
          <a:xfrm flipH="1">
            <a:off x="2835000" y="1787400"/>
            <a:ext cx="2473920" cy="21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112560" y="1406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8480" y="19018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36760" y="189540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46880" y="191124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25320" y="26478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5840" y="22273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74080" y="334800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90" idx="2"/>
            <a:endCxn id="391" idx="2"/>
          </p:cNvCxnSpPr>
          <p:nvPr/>
        </p:nvCxnSpPr>
        <p:spPr>
          <a:xfrm flipH="1" rot="16200000">
            <a:off x="2950200" y="136188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2475000" y="24256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2"/>
            <a:endCxn id="395" idx="2"/>
          </p:cNvCxnSpPr>
          <p:nvPr/>
        </p:nvCxnSpPr>
        <p:spPr>
          <a:xfrm flipH="1" rot="16200000">
            <a:off x="1759680" y="1111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96" name=""/>
          <p:cNvGrpSpPr/>
          <p:nvPr/>
        </p:nvGrpSpPr>
        <p:grpSpPr>
          <a:xfrm>
            <a:off x="352800" y="1631880"/>
            <a:ext cx="3777480" cy="411120"/>
            <a:chOff x="352800" y="1631880"/>
            <a:chExt cx="3777480" cy="411120"/>
          </a:xfrm>
        </p:grpSpPr>
        <p:sp>
          <p:nvSpPr>
            <p:cNvPr id="390" name=""/>
            <p:cNvSpPr/>
            <p:nvPr/>
          </p:nvSpPr>
          <p:spPr>
            <a:xfrm>
              <a:off x="352800" y="163188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2280" y="1884240"/>
              <a:ext cx="2728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46280" y="1884240"/>
              <a:ext cx="2732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560840" y="26067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07200" y="26064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0640" y="2720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98840" y="3660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62640" y="3514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380200" y="3514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58320" y="39798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0120" y="205884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-62280" y="487188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39640" y="13050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2960" y="2219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54160" y="25858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1520" y="250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26080" y="23511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57560" y="218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80120" y="11574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088160" y="2046240"/>
            <a:ext cx="4776480" cy="784080"/>
            <a:chOff x="4088160" y="2046240"/>
            <a:chExt cx="4776480" cy="784080"/>
          </a:xfrm>
        </p:grpSpPr>
        <p:sp>
          <p:nvSpPr>
            <p:cNvPr id="414" name=""/>
            <p:cNvSpPr/>
            <p:nvPr/>
          </p:nvSpPr>
          <p:spPr>
            <a:xfrm>
              <a:off x="4088160" y="23493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858000" y="24066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97960" y="2344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46920" y="24066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0240" y="2754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12360" y="2678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3600" y="20462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91000" y="2182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893520" y="176832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84600" y="15796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6" idx="3"/>
            <a:endCxn id="421" idx="0"/>
          </p:cNvCxnSpPr>
          <p:nvPr/>
        </p:nvCxnSpPr>
        <p:spPr>
          <a:xfrm>
            <a:off x="3274920" y="15177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406" idx="2"/>
            <a:endCxn id="411" idx="0"/>
          </p:cNvCxnSpPr>
          <p:nvPr/>
        </p:nvCxnSpPr>
        <p:spPr>
          <a:xfrm rot="5400000">
            <a:off x="2123280" y="195372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86080" y="1162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71680" y="15289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" y="1446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3399840" y="154764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0400" y="27972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3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3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3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4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33840" y="3936960"/>
            <a:ext cx="43243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-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for Function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45:56Z</dcterms:modified>
  <cp:revision>90</cp:revision>
  <dc:subject/>
  <dc:title>EXPRESS</dc:title>
</cp:coreProperties>
</file>